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60721"/>
        <c:axId val="61509595"/>
      </c:barChart>
      <c:catAx>
        <c:axId val="54960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09595"/>
        <c:crosses val="autoZero"/>
        <c:auto val="1"/>
        <c:lblAlgn val="ctr"/>
        <c:lblOffset val="100"/>
        <c:noMultiLvlLbl val="0"/>
      </c:catAx>
      <c:valAx>
        <c:axId val="61509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60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FEE-8220-464C-916B-279A43F6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4DC-52ED-4C15-829A-793CEC4C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44D-4EAD-4019-ACA9-07866EAC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DC3-CFF2-4BCB-9D62-1266EB78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D2C-3CF2-4D3B-9F80-CB7B4367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AEB-E9A7-49D5-A07E-9D4932E3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CDF-7005-49AE-922C-A8DD8D68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AA6-7507-421C-8114-4EBE4112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EB7-668D-450E-96A8-AAB91368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DF7-EAD9-48A9-B71A-4258A78E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123-BC34-4058-B505-DAB7AA29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CCB-B1B5-40DD-8F07-FF2367C0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37D08-FE2E-40DB-913D-D54DFE69AD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