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28441"/>
        <c:axId val="87833082"/>
      </c:barChart>
      <c:catAx>
        <c:axId val="22728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33082"/>
        <c:crosses val="autoZero"/>
        <c:auto val="1"/>
        <c:lblAlgn val="ctr"/>
        <c:lblOffset val="100"/>
        <c:noMultiLvlLbl val="0"/>
      </c:catAx>
      <c:valAx>
        <c:axId val="87833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28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DF0-E9A3-4FC9-B757-33BD2858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E87-2DA7-4625-8A1D-B9679C99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3AA-981A-4BAC-B182-1320AEFC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00C-EFDD-43F5-AD73-92843A9D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BE5-9573-4C72-B70E-F02C31E9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701-6EF8-46B3-8A74-9C9C3DF9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78C-6B4F-4D9A-9278-6AE5367B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C84-C1B5-42CC-9B69-0390AF1C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541-8AEB-47B1-8354-10BBA2E6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056-2E29-40E5-83AC-A357F84E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6E2-E246-479E-AEDE-A785490C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8C7-55B4-428C-8ECD-9D8D578C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95D65-F5B0-42B5-A4E5-685C2A98C8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