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D2369-A838-4D8A-9061-3689376D2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5223F-4639-4936-BA6A-B6002DF7B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24CFE-870E-4AC2-A9C1-D42A137F9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22C57-B51B-4383-8753-58660501C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43F64-8717-40A9-9EE0-78B743B3A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E3999-B550-48F7-9EB3-042305177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F2F26-24C7-4665-8844-96E9F1E3E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AD465-407D-4570-A76D-DEFFFD090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82A5F-7AAB-49A2-B775-211D4A4AD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2E0B3-9027-43EC-B9B3-341143D31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F118F-7028-4C88-A5DE-979A9BBA9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416FB-376D-45AF-88DA-10F5B9900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1F7E6-EA2F-44DE-9C30-3120ECF4A1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Math 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4343400" y="4114800"/>
                <a:ext cx="7714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∈</m:t>
                    </m:r>
                    <m:nary>
                      <m:naryPr>
                        <m:chr m:val="∰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1:09:10Z</dcterms:created>
  <dc:creator>Oliver Craemer</dc:creator>
  <dc:description/>
  <dc:language>en-US</dc:language>
  <cp:lastModifiedBy>Oliver Craemer</cp:lastModifiedBy>
  <dcterms:modified xsi:type="dcterms:W3CDTF">2005-01-06T11:09:21Z</dcterms:modified>
  <cp:revision>1</cp:revision>
  <dc:subject/>
  <dc:title>Math OLE</dc:title>
</cp:coreProperties>
</file>