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B336A9-9CB4-4620-BA09-30315FB442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8BD131-9605-4DF6-BCFB-67036B0954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F24589-BF2B-4EA3-9857-2A8D6BD3598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7C8AE5-B40D-4764-A8C7-9A3A24F013A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A38FCD-3709-4CC1-BFCF-5439DC5CD9B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084DF5-EAE2-4B2F-AC63-B4B4A1951E8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10F7E-5C08-4618-A776-ACCE32BC5D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D9047A-91FF-463A-B63E-17543DB3DDA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8666D-8715-45AA-910D-F0ECA37D354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00D317-5D8F-4BC0-8CFD-120149C61C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5634D2-3170-4D61-BBAB-50E9FD3F2D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5E61D6-4C10-442C-BEA2-D3CD9BE4B8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6E490-18BD-4654-80DB-4F926BB7E18B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752480" y="2743200"/>
            <a:ext cx="609840" cy="60948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3429000" y="17524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4648320" y="160020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438280" y="4419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5638680" y="160020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6248520" y="1981080"/>
            <a:ext cx="30456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324480" y="2666880"/>
            <a:ext cx="304920" cy="30492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609588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7315200" y="35053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 flipV="1">
            <a:off x="2286000" y="2057040"/>
            <a:ext cx="114300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 flipV="1">
            <a:off x="3733920" y="1752480"/>
            <a:ext cx="83808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5029200" y="17524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5943600" y="1828800"/>
            <a:ext cx="30492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6477120" y="2362320"/>
            <a:ext cx="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 flipH="1">
            <a:off x="6324480" y="3048120"/>
            <a:ext cx="152640" cy="3808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4114800" y="3276720"/>
            <a:ext cx="304920" cy="304560"/>
          </a:xfrm>
          <a:prstGeom prst="ellips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6477120" y="3581280"/>
            <a:ext cx="7617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flipH="1">
            <a:off x="6477120" y="3733920"/>
            <a:ext cx="838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 flipH="1" flipV="1">
            <a:off x="4495320" y="3428640"/>
            <a:ext cx="160020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flipH="1" flipV="1">
            <a:off x="2362320" y="3200040"/>
            <a:ext cx="1752480" cy="228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133720" y="3429000"/>
            <a:ext cx="30456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 flipH="1" flipV="1">
            <a:off x="2361960" y="3352680"/>
            <a:ext cx="228600" cy="990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16400" y="220968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3737160" y="1523880"/>
            <a:ext cx="762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4803840" y="1447920"/>
            <a:ext cx="1166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6025680" y="1600200"/>
            <a:ext cx="17107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 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6478920" y="228600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6174000" y="3048120"/>
            <a:ext cx="307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%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4804200" y="3200400"/>
            <a:ext cx="10083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EndEventDe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3125880" y="304812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6480360" y="3276720"/>
            <a:ext cx="9792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Field’s nam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>
            <a:off x="6481080" y="3733920"/>
            <a:ext cx="9032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Field’s typ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1376280" y="3809880"/>
            <a:ext cx="10540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Defini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fr-FR" sz="1200" spc="-1" strike="noStrike">
                <a:solidFill>
                  <a:srgbClr val="000000"/>
                </a:solidFill>
                <a:latin typeface="Times New Roman"/>
              </a:rPr>
              <a:t>reference </a:t>
            </a:r>
            <a:r>
              <a:rPr b="0" lang="fr-FR" sz="1200" spc="-1" strike="noStrike">
                <a:solidFill>
                  <a:srgbClr val="000000"/>
                </a:solidFill>
                <a:latin typeface="Times New Roman"/>
              </a:rPr>
              <a:t>(in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203280" y="4419720"/>
            <a:ext cx="509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200" spc="-1" strike="noStrike">
                <a:solidFill>
                  <a:srgbClr val="000000"/>
                </a:solidFill>
                <a:latin typeface="Times New Roman"/>
              </a:rPr>
              <a:t>valu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2592720" y="3581280"/>
            <a:ext cx="299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\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76" name=""/>
          <p:cNvCxnSpPr>
            <a:stCxn id="44" idx="7"/>
            <a:endCxn id="44" idx="5"/>
          </p:cNvCxnSpPr>
          <p:nvPr/>
        </p:nvCxnSpPr>
        <p:spPr>
          <a:xfrm>
            <a:off x="2698560" y="4464360"/>
            <a:ext cx="360" cy="215640"/>
          </a:xfrm>
          <a:prstGeom prst="curvedConnector3">
            <a:avLst>
              <a:gd name="adj1" fmla="val 15500000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77" name=""/>
          <p:cNvSpPr/>
          <p:nvPr/>
        </p:nvSpPr>
        <p:spPr>
          <a:xfrm>
            <a:off x="914400" y="990720"/>
            <a:ext cx="7162920" cy="43434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990720" y="685800"/>
            <a:ext cx="167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Paj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3200400" y="1219320"/>
            <a:ext cx="4648320" cy="274320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124080" y="990720"/>
            <a:ext cx="2514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Definition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1295280" y="3886200"/>
            <a:ext cx="2514600" cy="1219320"/>
          </a:xfrm>
          <a:prstGeom prst="rect">
            <a:avLst/>
          </a:prstGeom>
          <a:noFill/>
          <a:ln w="12600">
            <a:solidFill>
              <a:srgbClr val="ff99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1143000" y="4952880"/>
            <a:ext cx="19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600" spc="-1" strike="noStrike">
                <a:solidFill>
                  <a:srgbClr val="000000"/>
                </a:solidFill>
                <a:latin typeface="Times New Roman"/>
              </a:rPr>
              <a:t>ParserEventDecod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3657600" y="2362320"/>
            <a:ext cx="129528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 flipH="1" flipV="1">
            <a:off x="3200400" y="2209320"/>
            <a:ext cx="457200" cy="2286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H="1">
            <a:off x="3200400" y="2895480"/>
            <a:ext cx="533520" cy="45720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3733920" y="2727360"/>
            <a:ext cx="1295280" cy="398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Return of  store method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H="1">
            <a:off x="6781320" y="2971800"/>
            <a:ext cx="304920" cy="60948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 flipH="1">
            <a:off x="6933960" y="2971800"/>
            <a:ext cx="228600" cy="762120"/>
          </a:xfrm>
          <a:prstGeom prst="line">
            <a:avLst/>
          </a:prstGeom>
          <a:ln w="9360">
            <a:solidFill>
              <a:srgbClr val="000000"/>
            </a:solidFill>
            <a:prstDash val="sysDot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6705720" y="2514600"/>
            <a:ext cx="1295280" cy="550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Times New Roman"/>
              </a:rPr>
              <a:t>Call and return of storeField methode (of Definition class)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2-06T10:31:28Z</dcterms:created>
  <dc:creator>Redondy</dc:creator>
  <dc:description/>
  <dc:language>en-US</dc:language>
  <cp:lastModifiedBy>Redondy</cp:lastModifiedBy>
  <dcterms:modified xsi:type="dcterms:W3CDTF">2009-02-06T10:33:25Z</dcterms:modified>
  <cp:revision>1</cp:revision>
  <dc:subject/>
  <dc:title>Présentation PowerPoint</dc:title>
</cp:coreProperties>
</file>