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63741"/>
        <c:axId val="31970385"/>
      </c:barChart>
      <c:catAx>
        <c:axId val="20063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70385"/>
        <c:crosses val="autoZero"/>
        <c:auto val="1"/>
        <c:lblAlgn val="ctr"/>
        <c:lblOffset val="100"/>
        <c:noMultiLvlLbl val="0"/>
      </c:catAx>
      <c:valAx>
        <c:axId val="31970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63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3AE-EA1B-437B-8CB9-BA6057A4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C22-E92E-4D93-B64E-5566D320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CA21-95DC-4147-99A7-67CACA9A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B6C-5747-413B-9B2A-0B01A1B9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DE9-C8E7-4EC8-A2D0-FF503E2A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1BF-8FF7-4565-84DF-900F57C6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915-6487-45BE-949A-955C6956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A24-1BFB-46E1-9192-638D7A22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ED0-404C-4BEF-B5E7-916D1510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E43-0440-4640-81E4-20DC1FD7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AAE-E8C2-4609-8B4D-519DEBA5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99E-E651-425B-8DCA-5BC91157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2001A-E819-45F2-BA98-ED2D21CF5D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