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069968"/>
        <c:axId val="94763301"/>
      </c:barChart>
      <c:catAx>
        <c:axId val="570699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63301"/>
        <c:crosses val="autoZero"/>
        <c:auto val="1"/>
        <c:lblAlgn val="ctr"/>
        <c:lblOffset val="100"/>
        <c:noMultiLvlLbl val="0"/>
      </c:catAx>
      <c:valAx>
        <c:axId val="947633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699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3258-6B57-4D0E-96DA-2FBBAE52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3F2D-E179-41B1-8276-FC26FCD7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A641-0201-49C6-919F-2D8E991C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FAF2-0F44-41F5-BE59-6E406CA6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876C-7577-4C1A-9127-2D925D44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A2D2-9685-4112-8877-5EBFBD03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15FF-7E90-4966-93FE-D1D06192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F92D-25E1-4F3F-8691-81A50F43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F486-0D13-4FFA-8C9A-C016022D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68C9-73E9-4359-BE55-83A94D30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36CE-190C-4258-B183-ADD73842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684B-8297-44FA-AA51-CE177A77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6190D-FA19-40BF-94B1-A243F90AF2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